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D23-698C-4F7D-8A03-6BD5EEA6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335-D774-4B11-A2E9-E6D1EC3D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3A5-2954-4FD3-9E20-23E2CAAD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B80-7F54-4A09-9D91-3BD663B5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9DE-1164-4D91-8149-1268016E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310-4496-4EE6-A3BC-0C0CE8E8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044-FDC8-4CBD-9BB4-95524557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AF5-9CC3-40B5-A84E-0DD3E0F3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04A-C637-4642-A0EC-EBC30E07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217-DD4B-4B93-9025-1AC248F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E27-20FC-4E37-879C-57AC5EF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E0B-9C9C-4D7C-8947-B7DF50F1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D06A-A9F6-4005-8DE9-AFDAD2805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00360" y="127080"/>
            <a:ext cx="4948200" cy="574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NATURAL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ELEMENTS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Limestone Cliffts in Sera Arrabida Nat Park"/>
          <p:cNvPicPr/>
          <p:nvPr/>
        </p:nvPicPr>
        <p:blipFill>
          <a:blip r:embed="rId1"/>
          <a:stretch/>
        </p:blipFill>
        <p:spPr>
          <a:xfrm>
            <a:off x="1984320" y="0"/>
            <a:ext cx="4349880" cy="581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65800" y="5705640"/>
            <a:ext cx="151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Cli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52360"/>
            <a:ext cx="8136000" cy="538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94160" y="5734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01080" cy="534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31240" y="5303880"/>
            <a:ext cx="237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14680" y="1171440"/>
            <a:ext cx="5715000" cy="451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29160" y="5648400"/>
            <a:ext cx="14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874800"/>
            <a:ext cx="4497480" cy="4430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72000" y="5059440"/>
            <a:ext cx="209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67040" y="1476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4160" y="566100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1:01:03Z</dcterms:created>
  <dc:creator>I.E.S. FEDERICO GARCIA LORCA</dc:creator>
  <dc:description/>
  <dc:language>en-US</dc:language>
  <cp:lastModifiedBy>rmi</cp:lastModifiedBy>
  <dcterms:modified xsi:type="dcterms:W3CDTF">2010-02-08T12:59:12Z</dcterms:modified>
  <cp:revision>4</cp:revision>
  <dc:subject/>
  <dc:title>Diapositiva 1</dc:title>
</cp:coreProperties>
</file>